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447-9E72-4CBA-A6C9-C4D732B5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BB4-B28A-4E0B-A551-D88DA33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2A5E6-01F2-4093-B4E3-33240F09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7AE31-8D00-43C4-99F1-D8E5F3AB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CBDD1-3CAC-4BD1-A12B-45145966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2C0C6-9343-458B-A1E5-1BEFF0EF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5E44C-C08C-49F9-A20B-6C1E1A44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D0FE4-4AF3-4FA8-B4EF-A45D8E7A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7092D-0175-4049-A154-3BFEBAC8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3760A-82A4-470C-BBE9-5FDB2B38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E57E3-A22B-4CD2-AB11-11A097B2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469FC-C416-4C3B-98BA-CB21B458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8EE-0E21-431D-A988-433197B0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5FD59-7D9B-4036-800C-303EAA41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BC4EF-3E3B-4116-82F1-6D27AA6D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71FDF-F3B1-4E86-A345-6733087B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ABF03-D315-4E66-B27C-797992FF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F85C-243E-4329-82F6-22C2D7E4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1AA72-5514-4CC2-B494-F15BB95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BD3C8-CA69-40BF-9C06-ED73D1FD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0F776-8B40-4035-BD3A-43346DD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F804E-B6EE-467B-978C-7FB3C720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389C6-B447-41AF-8FA5-CE5E764C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594-6997-4F39-82C0-4A523A79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BEA52-634E-4511-A653-1EEEAE47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66B37-625F-4FDE-8EDA-E6C63301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BB6AC-EFE5-4F44-A344-45E34671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B64CA-5ED6-425E-BE2B-13FD6FF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9B02-DDC3-4D9A-B2D3-A4FE4567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55DAE-C9D7-4AA5-BD35-57B457D3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A9755-3181-4D65-9F5E-923BF329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B8587-70A2-449C-A09E-18686A3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05526-514E-4C9F-A1EC-E04F1522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D63A3-CFD5-43C3-BCAB-AB6A1C9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06A9F-CC71-4917-90C5-CACBAA57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A5951-87A3-4C43-8F8B-2A60B9DA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DB994-EDF5-4231-A2D2-435AC083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03693-223C-44A6-8DE6-1434382A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F53CE-31CE-480F-B60A-A9DF8307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BF61A-8EB7-4F22-B024-B58484F7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1078E-0B5B-4815-93C9-14676F1D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50AC4-4873-4A09-82D8-D74E76FF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3FC6A-E094-4C58-A23C-D873E03D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27B63-2952-43BC-85DD-2C52940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89D75-2F54-4DE0-853D-574499D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A55DA-CE03-4E1F-986A-00ABCF2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B6AB8-F0F9-4173-8D54-1CF7B1AD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912D-531F-491F-A8E7-D37AF9D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78752-69F5-48F8-9976-8CE31B96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7703C-706F-444D-AF56-4DB657E9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3159B-B89D-48C1-8617-6581FC91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735FC3-8FEB-4D30-AC38-524AEB83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207B3E-1EAE-4C7A-9048-7A71BB97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FB0E6B-FE4D-4FC3-8870-8A34577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77ABEF-44C0-46CA-9A99-6B438F80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2AB960-61C4-4A4F-8F33-95358175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5936A-B2C1-4366-B165-54C695E5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3BDC89-9852-422D-BBB3-185BFB05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D2C429-B207-4BA7-A44A-019A3F2B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F67FD9-C941-4A71-AD90-C7289E30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F3E231-759F-43BA-A5C3-3B06FDE5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384315-C358-45B5-B39B-5842D87F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CCE728-8FC8-476D-9606-6E236706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F385D2-43DD-410E-8630-5B906222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14CCB-F44F-43A8-8527-3FDBBDF2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37C56-F589-4675-8C61-62FF828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3DF24-A30B-4268-8549-59763094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63D84-C0CB-4D0C-8A88-1CA35EAD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E4EB7-DC36-4094-8CA9-B52A458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603B3-293C-4991-8098-D5B819EB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26A8D-FEFE-4B75-A239-7CC9FE22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F7B05-3366-4838-B7A3-A90B780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F5E94-C70C-41D6-80A4-D86599B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601B0-BD05-49EB-84F4-8925DF9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0A01E-045A-48DC-892E-EA2F9781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F6453-1FE5-4A00-8C14-6722A21A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8C788-50D1-463A-A158-87531953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10D33-D872-485F-8A8A-7D5D9149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32477-DBEC-47FD-B908-90DE62F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4DE55-D8CA-4615-B02C-33C9A141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3CB-82B6-4050-906C-22BB1993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5EDC8-4793-475D-864D-2F283C90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8CBDE-2FEE-4F77-815B-7B19DCC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AE48-6986-43E3-9DF3-E965C218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67AB2-0159-41D5-901D-64D104E1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7E3AF-8BC9-4643-8BB0-A393A5EE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10E60-AF42-46B5-A299-C34441A0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78B5D-408F-4172-B936-D6BFF010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9CA7E-4AAC-46A4-88F1-B445CDFD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9CE37-DBE5-4B84-9A88-5459E05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D8343-086A-414D-82B8-2C165CD6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3E8-3395-4241-B893-EA375325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33314-4930-4403-9A9E-8AA0B5B9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C4340-64BE-45EC-AA62-A3B874A1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B916C-5148-40E8-B1FB-2FCB7B46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57D26-50DA-44BA-A259-178DF5D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861A1-1F90-41BB-ADCD-2E72191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B2C45-04AF-46F0-B749-114E1FAB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C8DF0-07CF-400B-BC08-BA7F9ACC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AF58-00A0-4949-9D2A-007771A2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D5D0D-4142-4339-9594-CCD62831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BF42-8421-4CE9-B1F0-31228329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015-50F4-41B0-8ED0-2E85F49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96AE-FB48-4BEF-A879-CDB2979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506D-13FA-4F59-BF3B-59E990A3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1A48-46CD-4709-9BB4-5EF78CD0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93B8-6B55-4F10-A145-AEF1DE33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8665-D86B-4BDB-AAC1-ADB41B2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C5AF-EBDB-49A0-99E1-67CAE16A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45723-84E9-441A-839E-8A9A604A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2A220-E557-467D-9972-D301D158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8906-40EF-4B0A-93E4-5C64FB3D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02E9-9938-45F2-9F86-FAF9401C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D74-2CDE-4DC1-A729-0B8ADB28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FCA3B-D300-4179-A401-D60A001F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B472-D22D-47F0-9202-FEC0B989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83DA-083B-49FD-A752-1DFE2E3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21833-6D61-4DD9-9DD4-0BEE6856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E3D0-AC56-4930-BDFC-64BC9D69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8A25-25B5-44C8-B57C-C8E935E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4BB4-3941-4B66-9801-B1408BA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93C01-4656-4A0A-B084-46FEFD6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EB8D-7A29-469C-8CC3-6369B55E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512B-F7E2-45CA-91B1-5881DFCD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CD8-4B47-42AD-B167-DE6D2DDF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C077A-E338-4168-8683-52B5250A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D5059-584E-48D5-B3F5-AA0789F3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73051-AE29-4621-B5E7-FE4B2CE7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4C47E-0F9D-47F7-BBD3-27C023B7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1ACD0-33BA-41C0-AD0D-01068526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647B6-81A8-466D-904F-410CEFBB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2CF4B-A7D0-4528-9338-43BE6213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E2062-D82A-422C-8E14-889D4235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7BECA-FF70-4EFA-8C8F-A14CB42D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8943E-6F08-4533-A692-ACB198E6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6D1-1557-4A8C-AE6E-1D654C7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CC843-0A6B-44C1-BD6D-BB5D5EFC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EA278-0C33-4798-85F0-F6DCB927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43C13-F66C-4EDF-8D2C-72F56E70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33471-E6C2-4B5B-BC5F-AC0F07F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984AA-8C3D-442F-982C-7D283F35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E9B7-7F1B-45ED-8D32-0A090596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4F8B-606A-4804-9217-400EA030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94361-E720-4F49-9905-0997CB63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823F7-F35B-4A4A-B093-BB99BCE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E7BA5-3DCD-419D-A678-345FB7A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A28-96B2-448E-812F-9C346423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DC166-2DEC-4EF6-B92B-431CF00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84B1D-3D3A-4818-BB9E-1C8EE94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F135-6DB4-4B70-8459-726F9BF2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DFFE5-9625-4DF3-BFC8-B0B6412F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D816F-43F6-4174-8954-54002F4B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34C4-D372-4110-B3F3-31840941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562AA-0BFF-47E5-9DAE-653AAD3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FFC9-98D7-4EF6-B712-B3F86D4D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9774-FF02-4CA5-A3E8-31E5C44C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61B0-CDBC-45D9-8319-174C932A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0EA-C77B-48A4-A1D7-58B3EB90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EDEA4-2A4D-4CEB-A8ED-003FBE22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22156-514B-4AF1-89E6-5811B40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B224-CD3F-4F3B-B71D-6D58F299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8E0E-0F6F-43DA-A87B-9C4CEB0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5581-8320-40D8-8D38-C7BA466A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3A176-0E89-4C99-9854-C760C163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8201D-5ACE-45EC-817B-64BBD6EE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A646E-DCD0-4DD7-B697-E221C6FD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E0985-2193-4DFC-96DD-621B088D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90DD8-618E-461A-8489-4BD81CD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AA1D-CF2E-4B70-B300-98C3775D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0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531E-469C-4325-9AAD-4F3E9F8EA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C173-1848-44A8-9D45-789A82505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9E96-8EE1-431E-92E8-3CE048405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36C0-092C-46D9-8781-6938D6B8F8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0189-87DE-43DC-BCBA-D0FDA51D14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7E1-FDC4-46D6-95A7-D0EB52994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07B-AD3F-4BE5-B549-7649144CF5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6697-8025-4F31-9B43-1455565140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406-6852-41E8-BD92-CED92E268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A7E7-5A0D-4DA0-BE69-4B6C75BF0F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0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0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0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DC86-AA1F-4FC5-A895-5F9A49842C7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9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CB67-1181-4270-ABCF-08E7714C8BB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5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CD00-30A5-44A0-BC06-CEBB42C07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Joe Berthia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pis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piscina es grande, moderna, y lujos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mi mansion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mans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ón es  moderno and incre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2578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ocina es bonita y magnif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3048120" y="2857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sal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sala es grande y lujos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914400" y="3314880"/>
            <a:ext cx="47624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 un cuar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uarto es estupendo y bello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2133720" y="3314880"/>
            <a:ext cx="3657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 un comedor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comedor es impresionante y fabul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4724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a garaj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garaje es moderno y estupen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48006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rial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ño es moderno y bon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3581280" y="3521160"/>
            <a:ext cx="37339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s un jardi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jardin es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9:56Z</dcterms:created>
  <dc:creator>berthiaumejos</dc:creator>
  <dc:description/>
  <dc:language>en-US</dc:language>
  <cp:lastModifiedBy>berthiaumejos</cp:lastModifiedBy>
  <dcterms:modified xsi:type="dcterms:W3CDTF">2012-10-25T17:08:27Z</dcterms:modified>
  <cp:revision>7</cp:revision>
  <dc:subject/>
  <dc:title>La Casa</dc:title>
</cp:coreProperties>
</file>